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8BC88-81C4-4400-9B7B-ECAEF7701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1BBFF-78C1-407B-B2AF-2EDE6D4AB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3D429-5A07-4E8F-AB78-5C877BB03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BB6E6-3AAC-420D-B4F0-466761CF7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7EE2-2425-41EA-B705-3894ED3D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F8631-248E-492E-9F42-FBBA8BD03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0C19-BB6F-4A8A-B351-3F44562F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1FDE4-4505-43A1-A528-B239A981D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B7A06-FEB9-43FC-9764-3A03C8A8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CF74-D3CF-4FC6-B452-E013560B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2E09-F572-4364-9676-01B1F158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0763-58F7-4FA6-B69E-3FD09C5D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9CCE-C9DD-4837-9CBA-A25A22A868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 calcmode="lin" valueType="num">
                                      <p:cBhvr additive="repl">
                                        <p:cTn id="90"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animEffect filter="fade" transition="in">
                                      <p:cBhvr additive="repl">
                                        <p:cTn id="98" dur="2000"/>
                                        <p:tgtEl>
                                          <p:spTgt spid="55">
                                            <p:txEl>
                                              <p:pRg st="3" end="3"/>
                                            </p:txEl>
                                          </p:spTgt>
                                        </p:tgtEl>
                                      </p:cBhvr>
                                    </p:animEffect>
                                    <p:anim calcmode="lin" valueType="num">
                                      <p:cBhvr additive="repl">
                                        <p:cTn id="99"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0"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